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6460-17F0-486C-88B3-B69BA9745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94D0-E83C-4371-B511-6CED62241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D50E-B9B2-4677-992D-7333B3175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E848-3A9B-4F0F-B46F-3300E80F4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DB9E-1358-42DC-A576-3B5649058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4832-D3E6-41F2-831D-54FDC8CF5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D9B1-D997-4853-8C99-69730E200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A93F-FEA1-4BA2-A9A9-99A59A507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E06C-714F-4895-BF38-FFC62CC30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0D79-0971-4906-855A-830648665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0AFE-2D05-43E4-8541-7BFD53939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E06D-69EF-4823-AD42-9DD1EA9B5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4DD22-56F1-4D9D-A50D-A008A57D6A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57400" y="609480"/>
            <a:ext cx="1828800" cy="571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60948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2666880"/>
            <a:ext cx="76212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28195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3581280"/>
            <a:ext cx="76212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38098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57200"/>
            <a:ext cx="4038480" cy="6019920"/>
          </a:xfrm>
          <a:custGeom>
            <a:avLst/>
            <a:gdLst>
              <a:gd name="textAreaLeft" fmla="*/ 196920 w 4038480"/>
              <a:gd name="textAreaRight" fmla="*/ 3841560 w 4038480"/>
              <a:gd name="textAreaTop" fmla="*/ 196920 h 6019920"/>
              <a:gd name="textAreaBottom" fmla="*/ 5823000 h 6019920"/>
            </a:gdLst>
            <a:ahLst/>
            <a:rect l="textAreaLeft" t="textAreaTop" r="textAreaRight" b="textAreaBottom"/>
            <a:pathLst>
              <a:path w="21600" h="32197">
                <a:moveTo>
                  <a:pt x="3600" y="0"/>
                </a:moveTo>
                <a:arcTo wR="3600" hR="3600" stAng="16200000" swAng="-5400000"/>
                <a:lnTo>
                  <a:pt x="0" y="28597"/>
                </a:lnTo>
                <a:arcTo wR="3600" hR="3600" stAng="10800000" swAng="-5400000"/>
                <a:lnTo>
                  <a:pt x="18000" y="321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514600" y="9144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14600" y="9907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14600" y="144792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14600" y="15238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S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14600" y="1981080"/>
            <a:ext cx="8380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14600" y="20574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95480" y="44197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954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895480" y="4724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3048120"/>
            <a:ext cx="137160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514600" y="30481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38280" y="3276720"/>
            <a:ext cx="1067040" cy="99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14600" y="32767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523880" y="914400"/>
            <a:ext cx="304920" cy="5029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438280" y="6094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523880" y="1828800"/>
            <a:ext cx="304920" cy="32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828800" y="1143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048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143000" y="38862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666880" y="35812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66880" y="388620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590920" y="35812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590920" y="38862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4876920"/>
            <a:ext cx="137160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514600" y="48769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438280" y="5105520"/>
            <a:ext cx="1067040" cy="99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14600" y="51055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666880" y="5410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666880" y="571500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90920" y="54100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90920" y="5715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828800" y="1600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828800" y="21337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8288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828800" y="5562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514600" y="25146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25909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828800" y="26668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828800" y="39625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828800" y="5791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Cloud"/>
          <p:cNvSpPr/>
          <p:nvPr/>
        </p:nvSpPr>
        <p:spPr>
          <a:xfrm>
            <a:off x="4648320" y="2666880"/>
            <a:ext cx="1295280" cy="3812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86200" y="28195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24480" y="533520"/>
            <a:ext cx="2057400" cy="213336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360"/>
              <a:gd name="textAreaBottom" fmla="*/ 2032920 h 2133360"/>
            </a:gdLst>
            <a:ahLst/>
            <a:rect l="textAreaLeft" t="textAreaTop" r="textAreaRight" b="textAreaBottom"/>
            <a:pathLst>
              <a:path w="21600" h="22397">
                <a:moveTo>
                  <a:pt x="3600" y="0"/>
                </a:moveTo>
                <a:arcTo wR="3600" hR="3600" stAng="16200000" swAng="-5400000"/>
                <a:lnTo>
                  <a:pt x="0" y="18797"/>
                </a:lnTo>
                <a:arcTo wR="3600" hR="3600" stAng="10800000" swAng="-5400000"/>
                <a:lnTo>
                  <a:pt x="18000" y="223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15200" y="60948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91440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106668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391520" y="1066680"/>
            <a:ext cx="76176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391520" y="129528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553080" y="182880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858000" y="182880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705720" y="228600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705720" y="228600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0" y="1600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600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15200" y="2057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315200" y="28195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315200" y="2971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315200" y="31240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324480" y="335268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315200" y="34290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477120" y="464832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553080" y="480060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391520" y="4648320"/>
            <a:ext cx="761760" cy="53316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391520" y="487692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553080" y="419112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419112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7724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15200" y="3962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705720" y="373392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705720" y="37339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943600" y="2437920"/>
            <a:ext cx="76212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5715000" y="2971800"/>
            <a:ext cx="99072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6" name=""/>
          <p:cNvGrpSpPr/>
          <p:nvPr/>
        </p:nvGrpSpPr>
        <p:grpSpPr>
          <a:xfrm>
            <a:off x="2743200" y="2895480"/>
            <a:ext cx="1905120" cy="380880"/>
            <a:chOff x="2743200" y="2895480"/>
            <a:chExt cx="1905120" cy="380880"/>
          </a:xfrm>
        </p:grpSpPr>
        <p:sp>
          <p:nvSpPr>
            <p:cNvPr id="497" name=""/>
            <p:cNvSpPr/>
            <p:nvPr/>
          </p:nvSpPr>
          <p:spPr>
            <a:xfrm>
              <a:off x="2819520" y="297180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gent Advertis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743200" y="2895480"/>
              <a:ext cx="190512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9" name=""/>
          <p:cNvSpPr/>
          <p:nvPr/>
        </p:nvSpPr>
        <p:spPr>
          <a:xfrm>
            <a:off x="5105520" y="1828800"/>
            <a:ext cx="327636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590920" y="1828800"/>
            <a:ext cx="220968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457200" y="1828800"/>
            <a:ext cx="182880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819520" y="190512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F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09480" y="190512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5943600" y="190512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410080" y="28954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ertis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257800" y="28954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6781680" y="3048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7010280" y="25146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7010280" y="25146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7010280" y="35053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7620120" y="2286000"/>
            <a:ext cx="838080" cy="457200"/>
            <a:chOff x="7620120" y="2286000"/>
            <a:chExt cx="838080" cy="457200"/>
          </a:xfrm>
        </p:grpSpPr>
        <p:sp>
          <p:nvSpPr>
            <p:cNvPr id="512" name=""/>
            <p:cNvSpPr/>
            <p:nvPr/>
          </p:nvSpPr>
          <p:spPr>
            <a:xfrm>
              <a:off x="7620120" y="22860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620120" y="22860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4" name=""/>
          <p:cNvSpPr/>
          <p:nvPr/>
        </p:nvSpPr>
        <p:spPr>
          <a:xfrm>
            <a:off x="7620120" y="3276720"/>
            <a:ext cx="838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7620120" y="3276720"/>
            <a:ext cx="6094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848720" y="28195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848720" y="2971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7848720" y="31240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9" name=""/>
          <p:cNvGrpSpPr/>
          <p:nvPr/>
        </p:nvGrpSpPr>
        <p:grpSpPr>
          <a:xfrm>
            <a:off x="2743200" y="4495680"/>
            <a:ext cx="1905120" cy="380880"/>
            <a:chOff x="2743200" y="4495680"/>
            <a:chExt cx="1905120" cy="380880"/>
          </a:xfrm>
        </p:grpSpPr>
        <p:sp>
          <p:nvSpPr>
            <p:cNvPr id="520" name=""/>
            <p:cNvSpPr/>
            <p:nvPr/>
          </p:nvSpPr>
          <p:spPr>
            <a:xfrm>
              <a:off x="2819520" y="457200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gent Search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743200" y="4495680"/>
              <a:ext cx="190512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2" name=""/>
          <p:cNvSpPr/>
          <p:nvPr/>
        </p:nvSpPr>
        <p:spPr>
          <a:xfrm>
            <a:off x="609480" y="2895480"/>
            <a:ext cx="15242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5410080" y="44956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nded 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5257800" y="44956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6781680" y="4648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7010280" y="41148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7010280" y="41148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7010280" y="5105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7620120" y="3886200"/>
            <a:ext cx="838080" cy="457200"/>
            <a:chOff x="7620120" y="3886200"/>
            <a:chExt cx="838080" cy="457200"/>
          </a:xfrm>
        </p:grpSpPr>
        <p:sp>
          <p:nvSpPr>
            <p:cNvPr id="530" name=""/>
            <p:cNvSpPr/>
            <p:nvPr/>
          </p:nvSpPr>
          <p:spPr>
            <a:xfrm>
              <a:off x="7620120" y="38862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620120" y="38862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2" name=""/>
          <p:cNvSpPr/>
          <p:nvPr/>
        </p:nvSpPr>
        <p:spPr>
          <a:xfrm>
            <a:off x="7620120" y="4876920"/>
            <a:ext cx="838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7620120" y="4876920"/>
            <a:ext cx="6094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7848720" y="44197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784872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7848720" y="4724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762120" y="2895480"/>
            <a:ext cx="1218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oriz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762120" y="4495680"/>
            <a:ext cx="1218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ertis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609480" y="4495680"/>
            <a:ext cx="15242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2133720" y="30481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2133720" y="480060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4648320" y="30481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4648320" y="46483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2133720" y="320040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2438280" y="320040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2438280" y="457200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/>
          <p:nvPr/>
        </p:nvSpPr>
        <p:spPr>
          <a:xfrm>
            <a:off x="2362320" y="1943280"/>
            <a:ext cx="1714320" cy="1143000"/>
          </a:xfrm>
          <a:prstGeom prst="foldedCorner">
            <a:avLst>
              <a:gd name="adj" fmla="val 12500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 Agent Cod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-- Ch scri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-C Function Cal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2362320" y="3429000"/>
            <a:ext cx="1714320" cy="1143000"/>
          </a:xfrm>
          <a:prstGeom prst="can">
            <a:avLst>
              <a:gd name="adj" fmla="val 50000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2362320" y="3429000"/>
            <a:ext cx="1714320" cy="571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2590920" y="4114800"/>
            <a:ext cx="1218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.ch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5791320" y="1828800"/>
            <a:ext cx="1752480" cy="2895480"/>
          </a:xfrm>
          <a:prstGeom prst="can">
            <a:avLst>
              <a:gd name="adj" fmla="val 19736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791320" y="1828800"/>
            <a:ext cx="1752480" cy="571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5867280" y="4114800"/>
            <a:ext cx="144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_chdl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743200" y="350532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h Function Librar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172200" y="1905120"/>
            <a:ext cx="9144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-C Librar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362320" y="14479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/C++ Script Space (Mobile Agent Space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0" y="3809880"/>
            <a:ext cx="1028880" cy="571680"/>
          </a:xfrm>
          <a:prstGeom prst="leftRightArrow">
            <a:avLst>
              <a:gd name="adj1" fmla="val 50000"/>
              <a:gd name="adj2" fmla="val 35828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 flipH="1">
            <a:off x="2247840" y="2743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247840" y="2743200"/>
            <a:ext cx="0" cy="1486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224784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7696080" y="30481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 flipH="1">
            <a:off x="7162560" y="30481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2286000" y="4648320"/>
            <a:ext cx="19051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PMingLiU"/>
              </a:rPr>
              <a:t>Ch Mobile-C Pack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5943600" y="1523880"/>
            <a:ext cx="1447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/C++ Binary Spac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3276720"/>
            <a:ext cx="2362320" cy="1676160"/>
          </a:xfrm>
          <a:prstGeom prst="rect">
            <a:avLst/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5943600" y="3809880"/>
            <a:ext cx="1447920" cy="6098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5791320" y="380988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Interface Fun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5943600" y="2895480"/>
            <a:ext cx="144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5943600" y="2590920"/>
            <a:ext cx="1447920" cy="60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5791320" y="259092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Target Fun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7238880" y="4267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/>
          <p:nvPr/>
        </p:nvSpPr>
        <p:spPr>
          <a:xfrm>
            <a:off x="3048120" y="2019240"/>
            <a:ext cx="1714320" cy="1143000"/>
          </a:xfrm>
          <a:prstGeom prst="foldedCorner">
            <a:avLst>
              <a:gd name="adj" fmla="val 12500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 Agent Cod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-- Ch scri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-C Function Cal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5715000" y="1828800"/>
            <a:ext cx="1828800" cy="2895480"/>
          </a:xfrm>
          <a:prstGeom prst="can">
            <a:avLst>
              <a:gd name="adj" fmla="val 19736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5715000" y="1828800"/>
            <a:ext cx="1828800" cy="571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5867280" y="4114800"/>
            <a:ext cx="144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_chdl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6172200" y="1905120"/>
            <a:ext cx="9144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-C Librar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3048120" y="15238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/C++ Script Space (Mobile Agent Space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 flipV="1">
            <a:off x="7696080" y="3048120"/>
            <a:ext cx="0" cy="121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7162560" y="30481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5943600" y="1523880"/>
            <a:ext cx="1447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/C++ Binary Spac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5867280" y="3809880"/>
            <a:ext cx="1524240" cy="6098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5791320" y="380988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Interface Fun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5943600" y="2895480"/>
            <a:ext cx="144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867280" y="2590920"/>
            <a:ext cx="1524240" cy="60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5791320" y="259092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Target Fun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7238880" y="4267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4267080" y="281952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5257800" y="281952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5257800" y="42670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Cloud"/>
          <p:cNvSpPr/>
          <p:nvPr/>
        </p:nvSpPr>
        <p:spPr>
          <a:xfrm>
            <a:off x="4038480" y="2895480"/>
            <a:ext cx="1295640" cy="4572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" descr=""/>
          <p:cNvPicPr/>
          <p:nvPr/>
        </p:nvPicPr>
        <p:blipFill>
          <a:blip r:embed="rId1"/>
          <a:stretch/>
        </p:blipFill>
        <p:spPr>
          <a:xfrm>
            <a:off x="3886200" y="838080"/>
            <a:ext cx="1295280" cy="1217880"/>
          </a:xfrm>
          <a:prstGeom prst="rect">
            <a:avLst/>
          </a:prstGeom>
          <a:ln w="0">
            <a:noFill/>
          </a:ln>
        </p:spPr>
      </p:pic>
      <p:sp>
        <p:nvSpPr>
          <p:cNvPr id="592" name=""/>
          <p:cNvSpPr/>
          <p:nvPr/>
        </p:nvSpPr>
        <p:spPr>
          <a:xfrm rot="5400000">
            <a:off x="4190760" y="2286000"/>
            <a:ext cx="990360" cy="228600"/>
          </a:xfrm>
          <a:prstGeom prst="leftRightArrow">
            <a:avLst>
              <a:gd name="adj1" fmla="val 50000"/>
              <a:gd name="adj2" fmla="val 86244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1981080" y="4038480"/>
            <a:ext cx="1752840" cy="2590920"/>
          </a:xfrm>
          <a:custGeom>
            <a:avLst/>
            <a:gdLst>
              <a:gd name="textAreaLeft" fmla="*/ 85320 w 1752840"/>
              <a:gd name="textAreaRight" fmla="*/ 1667520 w 1752840"/>
              <a:gd name="textAreaTop" fmla="*/ 85320 h 2590920"/>
              <a:gd name="textAreaBottom" fmla="*/ 2505600 h 2590920"/>
            </a:gdLst>
            <a:ahLst/>
            <a:rect l="textAreaLeft" t="textAreaTop" r="textAreaRight" b="textAreaBottom"/>
            <a:pathLst>
              <a:path w="21600" h="31925">
                <a:moveTo>
                  <a:pt x="3600" y="0"/>
                </a:moveTo>
                <a:arcTo wR="3600" hR="3600" stAng="16200000" swAng="-5400000"/>
                <a:lnTo>
                  <a:pt x="0" y="28325"/>
                </a:lnTo>
                <a:arcTo wR="3600" hR="3600" stAng="10800000" swAng="-5400000"/>
                <a:lnTo>
                  <a:pt x="18000" y="3192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057400" y="411480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 Robot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209680" y="4419720"/>
            <a:ext cx="12956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2362320" y="441972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2209680" y="4800600"/>
            <a:ext cx="129564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209680" y="624852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362320" y="4952880"/>
            <a:ext cx="99036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2514600" y="594360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2743200" y="46483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2438280" y="5105520"/>
            <a:ext cx="838440" cy="83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2498760" y="5105520"/>
            <a:ext cx="65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2617920" y="5362560"/>
            <a:ext cx="479160" cy="19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617920" y="5621400"/>
            <a:ext cx="479160" cy="19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57440" y="5362560"/>
            <a:ext cx="65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57440" y="5621400"/>
            <a:ext cx="65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4495680" y="4800600"/>
            <a:ext cx="7488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4648320" y="4800600"/>
            <a:ext cx="7452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4800600" y="4800600"/>
            <a:ext cx="7452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1" name="" descr=""/>
          <p:cNvPicPr/>
          <p:nvPr/>
        </p:nvPicPr>
        <p:blipFill>
          <a:blip r:embed="rId2"/>
          <a:stretch/>
        </p:blipFill>
        <p:spPr>
          <a:xfrm>
            <a:off x="914400" y="4648320"/>
            <a:ext cx="1143000" cy="838080"/>
          </a:xfrm>
          <a:prstGeom prst="rect">
            <a:avLst/>
          </a:prstGeom>
          <a:ln w="0">
            <a:noFill/>
          </a:ln>
        </p:spPr>
      </p:pic>
      <p:grpSp>
        <p:nvGrpSpPr>
          <p:cNvPr id="612" name=""/>
          <p:cNvGrpSpPr/>
          <p:nvPr/>
        </p:nvGrpSpPr>
        <p:grpSpPr>
          <a:xfrm>
            <a:off x="5791320" y="4038480"/>
            <a:ext cx="1752480" cy="2590920"/>
            <a:chOff x="5791320" y="4038480"/>
            <a:chExt cx="1752480" cy="2590920"/>
          </a:xfrm>
        </p:grpSpPr>
        <p:sp>
          <p:nvSpPr>
            <p:cNvPr id="613" name=""/>
            <p:cNvSpPr/>
            <p:nvPr/>
          </p:nvSpPr>
          <p:spPr>
            <a:xfrm>
              <a:off x="5791320" y="4038480"/>
              <a:ext cx="1752480" cy="2590920"/>
            </a:xfrm>
            <a:custGeom>
              <a:avLst/>
              <a:gdLst>
                <a:gd name="textAreaLeft" fmla="*/ 85320 w 1752480"/>
                <a:gd name="textAreaRight" fmla="*/ 1667160 w 1752480"/>
                <a:gd name="textAreaTop" fmla="*/ 85320 h 2590920"/>
                <a:gd name="textAreaBottom" fmla="*/ 2505600 h 2590920"/>
              </a:gdLst>
              <a:ahLst/>
              <a:rect l="textAreaLeft" t="textAreaTop" r="textAreaRight" b="textAreaBottom"/>
              <a:pathLst>
                <a:path w="21600" h="31932">
                  <a:moveTo>
                    <a:pt x="3600" y="0"/>
                  </a:moveTo>
                  <a:arcTo wR="3600" hR="3600" stAng="16200000" swAng="-5400000"/>
                  <a:lnTo>
                    <a:pt x="0" y="28332"/>
                  </a:lnTo>
                  <a:arcTo wR="3600" hR="3600" stAng="10800000" swAng="-5400000"/>
                  <a:lnTo>
                    <a:pt x="18000" y="3193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867640" y="4114800"/>
              <a:ext cx="1600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obile Robot Progra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019920" y="4419720"/>
              <a:ext cx="129528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172200" y="4419720"/>
              <a:ext cx="990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-C  AP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019920" y="4800600"/>
              <a:ext cx="1295280" cy="1676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019920" y="6248520"/>
              <a:ext cx="1295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-C Agenc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172200" y="4952880"/>
              <a:ext cx="990720" cy="1219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324840" y="5943600"/>
              <a:ext cx="698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E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553440" y="4648320"/>
              <a:ext cx="228600" cy="457200"/>
            </a:xfrm>
            <a:prstGeom prst="upDownArrow">
              <a:avLst>
                <a:gd name="adj1" fmla="val 50000"/>
                <a:gd name="adj2" fmla="val 3981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2" name=""/>
            <p:cNvGrpSpPr/>
            <p:nvPr/>
          </p:nvGrpSpPr>
          <p:grpSpPr>
            <a:xfrm>
              <a:off x="6248520" y="5105520"/>
              <a:ext cx="838080" cy="838080"/>
              <a:chOff x="6248520" y="5105520"/>
              <a:chExt cx="838080" cy="838080"/>
            </a:xfrm>
          </p:grpSpPr>
          <p:sp>
            <p:nvSpPr>
              <p:cNvPr id="623" name=""/>
              <p:cNvSpPr/>
              <p:nvPr/>
            </p:nvSpPr>
            <p:spPr>
              <a:xfrm>
                <a:off x="6248520" y="5105520"/>
                <a:ext cx="838080" cy="8380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6308280" y="5105520"/>
                <a:ext cx="659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   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6427800" y="5362920"/>
                <a:ext cx="478800" cy="193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6427800" y="5621040"/>
                <a:ext cx="478800" cy="193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6366960" y="5361840"/>
                <a:ext cx="659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o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6366960" y="5621040"/>
                <a:ext cx="659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at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29" name="" descr=""/>
          <p:cNvPicPr/>
          <p:nvPr/>
        </p:nvPicPr>
        <p:blipFill>
          <a:blip r:embed="rId3"/>
          <a:stretch/>
        </p:blipFill>
        <p:spPr>
          <a:xfrm>
            <a:off x="7467480" y="4572000"/>
            <a:ext cx="1143000" cy="831960"/>
          </a:xfrm>
          <a:prstGeom prst="rect">
            <a:avLst/>
          </a:prstGeom>
          <a:ln w="0">
            <a:noFill/>
          </a:ln>
        </p:spPr>
      </p:pic>
      <p:sp>
        <p:nvSpPr>
          <p:cNvPr id="630" name=""/>
          <p:cNvSpPr/>
          <p:nvPr/>
        </p:nvSpPr>
        <p:spPr>
          <a:xfrm>
            <a:off x="3886200" y="5335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nitoring Ho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 rot="18430800">
            <a:off x="3565080" y="3701880"/>
            <a:ext cx="1067040" cy="228600"/>
          </a:xfrm>
          <a:prstGeom prst="leftRightArrow">
            <a:avLst>
              <a:gd name="adj1" fmla="val 50000"/>
              <a:gd name="adj2" fmla="val 92922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 rot="13640400">
            <a:off x="4847760" y="3690720"/>
            <a:ext cx="1067040" cy="228600"/>
          </a:xfrm>
          <a:prstGeom prst="leftRightArrow">
            <a:avLst>
              <a:gd name="adj1" fmla="val 50000"/>
              <a:gd name="adj2" fmla="val 92922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257800" y="152280"/>
            <a:ext cx="1752480" cy="2590920"/>
          </a:xfrm>
          <a:custGeom>
            <a:avLst/>
            <a:gdLst>
              <a:gd name="textAreaLeft" fmla="*/ 85320 w 1752480"/>
              <a:gd name="textAreaRight" fmla="*/ 1667160 w 1752480"/>
              <a:gd name="textAreaTop" fmla="*/ 85320 h 2590920"/>
              <a:gd name="textAreaBottom" fmla="*/ 2505600 h 2590920"/>
            </a:gdLst>
            <a:ahLst/>
            <a:rect l="textAreaLeft" t="textAreaTop" r="textAreaRight" b="textAreaBottom"/>
            <a:pathLst>
              <a:path w="21600" h="31932">
                <a:moveTo>
                  <a:pt x="3600" y="0"/>
                </a:moveTo>
                <a:arcTo wR="3600" hR="3600" stAng="16200000" swAng="-5400000"/>
                <a:lnTo>
                  <a:pt x="0" y="28332"/>
                </a:lnTo>
                <a:arcTo wR="3600" hR="3600" stAng="10800000" swAng="-5400000"/>
                <a:lnTo>
                  <a:pt x="18000" y="319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410080" y="228600"/>
            <a:ext cx="14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nitoring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5486400" y="533520"/>
            <a:ext cx="12952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638680" y="5335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5486400" y="914400"/>
            <a:ext cx="129528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54864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5638680" y="1066680"/>
            <a:ext cx="99072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791320" y="205740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6019920" y="7621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2" name=""/>
          <p:cNvGrpSpPr/>
          <p:nvPr/>
        </p:nvGrpSpPr>
        <p:grpSpPr>
          <a:xfrm>
            <a:off x="5715000" y="1219320"/>
            <a:ext cx="838080" cy="838080"/>
            <a:chOff x="5715000" y="1219320"/>
            <a:chExt cx="838080" cy="838080"/>
          </a:xfrm>
        </p:grpSpPr>
        <p:sp>
          <p:nvSpPr>
            <p:cNvPr id="643" name=""/>
            <p:cNvSpPr/>
            <p:nvPr/>
          </p:nvSpPr>
          <p:spPr>
            <a:xfrm>
              <a:off x="5715000" y="1219320"/>
              <a:ext cx="83808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774760" y="1219320"/>
              <a:ext cx="659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894280" y="1476720"/>
              <a:ext cx="478800" cy="193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894280" y="1734840"/>
              <a:ext cx="478800" cy="193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833440" y="1475640"/>
              <a:ext cx="659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d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833440" y="1734840"/>
              <a:ext cx="659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9" name=""/>
          <p:cNvSpPr/>
          <p:nvPr/>
        </p:nvSpPr>
        <p:spPr>
          <a:xfrm>
            <a:off x="4952880" y="4800600"/>
            <a:ext cx="76320" cy="763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5105520" y="4800600"/>
            <a:ext cx="7452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4343400" y="4800600"/>
            <a:ext cx="7452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2" name=""/>
          <p:cNvGrpSpPr/>
          <p:nvPr/>
        </p:nvGrpSpPr>
        <p:grpSpPr>
          <a:xfrm>
            <a:off x="3946680" y="2286000"/>
            <a:ext cx="658800" cy="246240"/>
            <a:chOff x="3946680" y="2286000"/>
            <a:chExt cx="658800" cy="246240"/>
          </a:xfrm>
        </p:grpSpPr>
        <p:sp>
          <p:nvSpPr>
            <p:cNvPr id="653" name=""/>
            <p:cNvSpPr/>
            <p:nvPr/>
          </p:nvSpPr>
          <p:spPr>
            <a:xfrm>
              <a:off x="4114800" y="2286000"/>
              <a:ext cx="38088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3946680" y="2286000"/>
              <a:ext cx="65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4114800" y="2286000"/>
            <a:ext cx="3808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3413160" y="3505320"/>
            <a:ext cx="658800" cy="246240"/>
            <a:chOff x="3413160" y="3505320"/>
            <a:chExt cx="658800" cy="246240"/>
          </a:xfrm>
        </p:grpSpPr>
        <p:sp>
          <p:nvSpPr>
            <p:cNvPr id="657" name=""/>
            <p:cNvSpPr/>
            <p:nvPr/>
          </p:nvSpPr>
          <p:spPr>
            <a:xfrm>
              <a:off x="3581280" y="3505320"/>
              <a:ext cx="38088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413160" y="3505320"/>
              <a:ext cx="65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9" name=""/>
          <p:cNvSpPr/>
          <p:nvPr/>
        </p:nvSpPr>
        <p:spPr>
          <a:xfrm>
            <a:off x="3581280" y="3505320"/>
            <a:ext cx="38124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0" name=""/>
          <p:cNvGrpSpPr/>
          <p:nvPr/>
        </p:nvGrpSpPr>
        <p:grpSpPr>
          <a:xfrm>
            <a:off x="5318280" y="3505320"/>
            <a:ext cx="658800" cy="246240"/>
            <a:chOff x="5318280" y="3505320"/>
            <a:chExt cx="658800" cy="246240"/>
          </a:xfrm>
        </p:grpSpPr>
        <p:sp>
          <p:nvSpPr>
            <p:cNvPr id="661" name=""/>
            <p:cNvSpPr/>
            <p:nvPr/>
          </p:nvSpPr>
          <p:spPr>
            <a:xfrm>
              <a:off x="5486400" y="3505320"/>
              <a:ext cx="38088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318280" y="3505320"/>
              <a:ext cx="65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3" name=""/>
          <p:cNvSpPr/>
          <p:nvPr/>
        </p:nvSpPr>
        <p:spPr>
          <a:xfrm>
            <a:off x="5486400" y="3505320"/>
            <a:ext cx="3808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8098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0384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2670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486400" y="434340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477120" y="441972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638680" y="5638680"/>
            <a:ext cx="76212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715000" y="57913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553080" y="5638680"/>
            <a:ext cx="76212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553080" y="58672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715000" y="5181480"/>
            <a:ext cx="1523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019920" y="51814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01992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93432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477120" y="4952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867280" y="47242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7242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2590920" y="4038120"/>
            <a:ext cx="137160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 flipV="1">
            <a:off x="4800600" y="3962520"/>
            <a:ext cx="1371600" cy="761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295280" y="434340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371600" y="44197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447920" y="563868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523880" y="57913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362320" y="5638680"/>
            <a:ext cx="76176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362320" y="586728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523880" y="518148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828800" y="51814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8288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432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0" y="4952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76520" y="472428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676520" y="472428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4956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7242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9528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" y="380880"/>
            <a:ext cx="7543800" cy="3048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553080" y="5335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066680" y="1295280"/>
            <a:ext cx="67820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124080" y="1295280"/>
            <a:ext cx="274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plication Programming Interfa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914400" y="1676520"/>
            <a:ext cx="7086600" cy="144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447920" y="274320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295280" y="1523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066680" y="1981080"/>
            <a:ext cx="83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67652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676520" y="198108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S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28600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362320" y="198108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895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895480" y="198108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505320" y="1905120"/>
            <a:ext cx="17524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114800" y="27432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581280" y="2057400"/>
            <a:ext cx="16002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114800" y="2514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3920" y="228600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419720" y="228600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657600" y="2286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343400" y="2286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095880" y="1905120"/>
            <a:ext cx="175284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705720" y="27432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172200" y="2057400"/>
            <a:ext cx="16002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705720" y="25146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324480" y="228600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010280" y="228600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248520" y="2286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934320" y="2286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410080" y="2438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638680" y="2438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867280" y="2438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905120" y="1523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14600" y="1523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124080" y="1523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038480" y="1523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724280" y="1523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629400" y="1523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315200" y="1523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124080" y="533520"/>
            <a:ext cx="762120" cy="533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200400" y="60948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609480"/>
            <a:ext cx="761760" cy="45720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876920" y="7621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1066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257800" y="1066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419720" y="3124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Cloud"/>
          <p:cNvSpPr/>
          <p:nvPr/>
        </p:nvSpPr>
        <p:spPr>
          <a:xfrm>
            <a:off x="3733920" y="3657600"/>
            <a:ext cx="1295280" cy="3808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8098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0384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2670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486400" y="434340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477120" y="441972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638680" y="5638680"/>
            <a:ext cx="76212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715000" y="57913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553080" y="5638680"/>
            <a:ext cx="76212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553080" y="58672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15000" y="5181480"/>
            <a:ext cx="1523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019920" y="51814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01992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93432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477120" y="4952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867280" y="47242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867280" y="47242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038120"/>
            <a:ext cx="137160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4800600" y="3962520"/>
            <a:ext cx="1371600" cy="761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295280" y="434340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371600" y="44197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447920" y="563868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523880" y="57913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62320" y="5638680"/>
            <a:ext cx="76176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362320" y="586728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523880" y="518148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28800" y="51814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8288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7432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0" y="4952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76520" y="472428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676520" y="472428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4956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7242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9528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343400" y="3048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Cloud"/>
          <p:cNvSpPr/>
          <p:nvPr/>
        </p:nvSpPr>
        <p:spPr>
          <a:xfrm>
            <a:off x="3733920" y="3657600"/>
            <a:ext cx="1295280" cy="3808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352680" y="106668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886200" y="11430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505320" y="144792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581280" y="160020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419720" y="1600200"/>
            <a:ext cx="76176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419720" y="182880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581280" y="236232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86200" y="236232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962520" y="2133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800600" y="2133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343400" y="2590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733920" y="281952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733920" y="28195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209680" y="37339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 rot="936600">
            <a:off x="3048120" y="3733560"/>
            <a:ext cx="369720" cy="45720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5511960" y="365904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 rot="20093400">
            <a:off x="5334120" y="3657240"/>
            <a:ext cx="312480" cy="4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38098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84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2670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3124080" y="3581280"/>
            <a:ext cx="990720" cy="1067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H="1" flipV="1">
            <a:off x="4571640" y="3504960"/>
            <a:ext cx="1143000" cy="114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4956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7242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9528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343400" y="23623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Cloud"/>
          <p:cNvSpPr/>
          <p:nvPr/>
        </p:nvSpPr>
        <p:spPr>
          <a:xfrm>
            <a:off x="3657600" y="3200400"/>
            <a:ext cx="1371600" cy="3808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505320" y="1523880"/>
            <a:ext cx="1676160" cy="990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809880" y="160020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981080"/>
            <a:ext cx="121896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809880" y="205740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590920" y="36576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257800" y="3581280"/>
            <a:ext cx="965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 rot="20328600">
            <a:off x="5091120" y="3594240"/>
            <a:ext cx="257040" cy="38088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4662360" y="2654280"/>
            <a:ext cx="965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 rot="20328600">
            <a:off x="4495680" y="2666520"/>
            <a:ext cx="257400" cy="38124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3"/>
          <a:stretch/>
        </p:blipFill>
        <p:spPr>
          <a:xfrm rot="947400">
            <a:off x="3428640" y="3657600"/>
            <a:ext cx="257040" cy="38088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1676520" y="4191120"/>
            <a:ext cx="1676160" cy="990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981080" y="426708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905120" y="4648320"/>
            <a:ext cx="121896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981080" y="472428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486400" y="4191120"/>
            <a:ext cx="1676520" cy="990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791320" y="42670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715000" y="4648320"/>
            <a:ext cx="12193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791320" y="47242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1066680" y="3124080"/>
            <a:ext cx="541044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219320" y="34290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219320" y="35053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352680" y="3429000"/>
            <a:ext cx="8384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352680" y="3505320"/>
            <a:ext cx="83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S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419720" y="34290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419720" y="35053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486400" y="3429000"/>
            <a:ext cx="8380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86400" y="41148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638680" y="3733920"/>
            <a:ext cx="53352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562720" y="38098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666880" y="411480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286000" y="34290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286000" y="35053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066680" y="2438280"/>
            <a:ext cx="54104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438280" y="2514600"/>
            <a:ext cx="304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pplication  Programming  Interfa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523880" y="2819520"/>
            <a:ext cx="228600" cy="609480"/>
          </a:xfrm>
          <a:prstGeom prst="upDownArrow">
            <a:avLst>
              <a:gd name="adj1" fmla="val 50000"/>
              <a:gd name="adj2" fmla="val 530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590920" y="2819520"/>
            <a:ext cx="228600" cy="609480"/>
          </a:xfrm>
          <a:prstGeom prst="upDownArrow">
            <a:avLst>
              <a:gd name="adj1" fmla="val 50000"/>
              <a:gd name="adj2" fmla="val 530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657600" y="2819520"/>
            <a:ext cx="228600" cy="609480"/>
          </a:xfrm>
          <a:prstGeom prst="upDownArrow">
            <a:avLst>
              <a:gd name="adj1" fmla="val 50000"/>
              <a:gd name="adj2" fmla="val 530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724280" y="2819520"/>
            <a:ext cx="228600" cy="609480"/>
          </a:xfrm>
          <a:prstGeom prst="upDownArrow">
            <a:avLst>
              <a:gd name="adj1" fmla="val 50000"/>
              <a:gd name="adj2" fmla="val 530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8195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5257800" y="1828800"/>
            <a:ext cx="26668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85800" y="1828800"/>
            <a:ext cx="16002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743200" y="1828800"/>
            <a:ext cx="205740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43200" y="198108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MS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85800" y="198108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257800" y="1981080"/>
            <a:ext cx="29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  /  AEE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85800" y="990720"/>
            <a:ext cx="7238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1066680"/>
            <a:ext cx="29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pplication  Programming  Interfac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371600" y="137160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477120" y="137160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657600" y="137160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286000" y="2133720"/>
            <a:ext cx="4572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800600" y="2133720"/>
            <a:ext cx="4572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743200" y="228600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CC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266688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SM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743200" y="304812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F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2" name=""/>
          <p:cNvGrpSpPr/>
          <p:nvPr/>
        </p:nvGrpSpPr>
        <p:grpSpPr>
          <a:xfrm>
            <a:off x="2819520" y="2666880"/>
            <a:ext cx="1904760" cy="380880"/>
            <a:chOff x="2819520" y="2666880"/>
            <a:chExt cx="1904760" cy="380880"/>
          </a:xfrm>
        </p:grpSpPr>
        <p:sp>
          <p:nvSpPr>
            <p:cNvPr id="323" name=""/>
            <p:cNvSpPr/>
            <p:nvPr/>
          </p:nvSpPr>
          <p:spPr>
            <a:xfrm>
              <a:off x="2895480" y="274320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nnection Listen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819520" y="266688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2819520" y="4191120"/>
            <a:ext cx="1904760" cy="380880"/>
            <a:chOff x="2819520" y="4191120"/>
            <a:chExt cx="1904760" cy="380880"/>
          </a:xfrm>
        </p:grpSpPr>
        <p:sp>
          <p:nvSpPr>
            <p:cNvPr id="326" name=""/>
            <p:cNvSpPr/>
            <p:nvPr/>
          </p:nvSpPr>
          <p:spPr>
            <a:xfrm>
              <a:off x="2895480" y="426744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essage Receiv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819520" y="419112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2819520" y="5257800"/>
            <a:ext cx="1904760" cy="380880"/>
            <a:chOff x="2819520" y="5257800"/>
            <a:chExt cx="1904760" cy="380880"/>
          </a:xfrm>
        </p:grpSpPr>
        <p:sp>
          <p:nvSpPr>
            <p:cNvPr id="329" name=""/>
            <p:cNvSpPr/>
            <p:nvPr/>
          </p:nvSpPr>
          <p:spPr>
            <a:xfrm>
              <a:off x="2895480" y="533412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essage Send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819520" y="525780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"/>
          <p:cNvSpPr/>
          <p:nvPr/>
        </p:nvSpPr>
        <p:spPr>
          <a:xfrm>
            <a:off x="5410080" y="274320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epted Connection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334120" y="2666880"/>
            <a:ext cx="17524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7086600" y="2819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315200" y="24382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15200" y="2438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620120" y="2209680"/>
            <a:ext cx="11430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772400" y="220968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epted Connection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8153280" y="26668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8153280" y="28195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8153280" y="2971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315200" y="3276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620120" y="3124080"/>
            <a:ext cx="11430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772400" y="312408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epted Connection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486400" y="4267080"/>
            <a:ext cx="15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oming Message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334120" y="4191120"/>
            <a:ext cx="17524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7086600" y="4343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7315200" y="3962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315200" y="3962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7620120" y="373392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7772400" y="373392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oming Message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8153280" y="4191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8153280" y="43434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8153280" y="44956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7315200" y="48006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7620120" y="464832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7772400" y="464832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oming Message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0880" y="426708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epted Connection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04920" y="4191120"/>
            <a:ext cx="17524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57200" y="5334120"/>
            <a:ext cx="15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going Message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04920" y="5257800"/>
            <a:ext cx="17524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181480" y="1828800"/>
            <a:ext cx="3733920" cy="396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666880" y="1828800"/>
            <a:ext cx="2210040" cy="396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52280" y="1828800"/>
            <a:ext cx="2057400" cy="396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819520" y="1905120"/>
            <a:ext cx="1904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CC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57200" y="190512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172200" y="1905120"/>
            <a:ext cx="175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724280" y="434340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724280" y="28195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057400" y="43434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2057400" y="541008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52280" y="1295280"/>
            <a:ext cx="8763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048120" y="1295280"/>
            <a:ext cx="29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pplication  Programming  Interfac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990720" y="1523880"/>
            <a:ext cx="228600" cy="304920"/>
          </a:xfrm>
          <a:prstGeom prst="upDownArrow">
            <a:avLst>
              <a:gd name="adj1" fmla="val 50000"/>
              <a:gd name="adj2" fmla="val 2655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657600" y="1523880"/>
            <a:ext cx="228600" cy="304920"/>
          </a:xfrm>
          <a:prstGeom prst="upDownArrow">
            <a:avLst>
              <a:gd name="adj1" fmla="val 50000"/>
              <a:gd name="adj2" fmla="val 2655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934320" y="1523880"/>
            <a:ext cx="228600" cy="304920"/>
          </a:xfrm>
          <a:prstGeom prst="upDownArrow">
            <a:avLst>
              <a:gd name="adj1" fmla="val 50000"/>
              <a:gd name="adj2" fmla="val 2655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2971800" y="205740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gent Initializing Threa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895480" y="1981080"/>
            <a:ext cx="16765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334120" y="205740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181480" y="1981080"/>
            <a:ext cx="15242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705720" y="2133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934320" y="16002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934320" y="1600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934320" y="2590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181480" y="3505320"/>
            <a:ext cx="1524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going Message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181480" y="3429000"/>
            <a:ext cx="15242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705720" y="3581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934320" y="32004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934320" y="32004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7238880" y="297180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7391520" y="2971800"/>
            <a:ext cx="99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going Message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772400" y="3429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772400" y="3581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772400" y="37339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934320" y="40384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238880" y="388620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7391520" y="3886200"/>
            <a:ext cx="99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going Message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09480" y="3352680"/>
            <a:ext cx="16002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orize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33520" y="3276720"/>
            <a:ext cx="17524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85800" y="2057400"/>
            <a:ext cx="15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oming Message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33520" y="1981080"/>
            <a:ext cx="17524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029200" y="990720"/>
            <a:ext cx="3505320" cy="56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743200" y="990720"/>
            <a:ext cx="1981080" cy="304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80880" y="990720"/>
            <a:ext cx="2057400" cy="304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2819520" y="1066680"/>
            <a:ext cx="1904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MS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09480" y="106668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5410080" y="1066680"/>
            <a:ext cx="266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  /  AEE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2971800" y="350532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gent Managing Threa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895480" y="3429000"/>
            <a:ext cx="16765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181480" y="5029200"/>
            <a:ext cx="16002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gent Execution Engine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read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181480" y="4952880"/>
            <a:ext cx="152424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705720" y="5181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934320" y="48006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934320" y="48006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934320" y="60958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543800" y="1371600"/>
            <a:ext cx="838080" cy="457200"/>
            <a:chOff x="7543800" y="1371600"/>
            <a:chExt cx="838080" cy="457200"/>
          </a:xfrm>
        </p:grpSpPr>
        <p:sp>
          <p:nvSpPr>
            <p:cNvPr id="416" name=""/>
            <p:cNvSpPr/>
            <p:nvPr/>
          </p:nvSpPr>
          <p:spPr>
            <a:xfrm>
              <a:off x="7543800" y="13716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543800" y="13716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"/>
          <p:cNvSpPr/>
          <p:nvPr/>
        </p:nvSpPr>
        <p:spPr>
          <a:xfrm>
            <a:off x="7543800" y="2362320"/>
            <a:ext cx="838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7543800" y="2362320"/>
            <a:ext cx="6094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772400" y="1905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7772400" y="20574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772400" y="22096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7238880" y="4419720"/>
            <a:ext cx="114300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315200" y="441972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Thread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7543800" y="4648320"/>
            <a:ext cx="838080" cy="457200"/>
            <a:chOff x="7543800" y="4648320"/>
            <a:chExt cx="838080" cy="457200"/>
          </a:xfrm>
        </p:grpSpPr>
        <p:sp>
          <p:nvSpPr>
            <p:cNvPr id="426" name=""/>
            <p:cNvSpPr/>
            <p:nvPr/>
          </p:nvSpPr>
          <p:spPr>
            <a:xfrm>
              <a:off x="7543800" y="464832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543800" y="464832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8" name=""/>
          <p:cNvSpPr/>
          <p:nvPr/>
        </p:nvSpPr>
        <p:spPr>
          <a:xfrm>
            <a:off x="7238880" y="5715000"/>
            <a:ext cx="11430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543800" y="5943600"/>
            <a:ext cx="838080" cy="457200"/>
            <a:chOff x="7543800" y="5943600"/>
            <a:chExt cx="838080" cy="457200"/>
          </a:xfrm>
        </p:grpSpPr>
        <p:sp>
          <p:nvSpPr>
            <p:cNvPr id="430" name=""/>
            <p:cNvSpPr/>
            <p:nvPr/>
          </p:nvSpPr>
          <p:spPr>
            <a:xfrm>
              <a:off x="7543800" y="59436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543800" y="59436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2" name=""/>
          <p:cNvSpPr/>
          <p:nvPr/>
        </p:nvSpPr>
        <p:spPr>
          <a:xfrm>
            <a:off x="7772400" y="5257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7772400" y="54100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7772400" y="55627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7315200" y="571500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Thread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4572000" y="21337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4572000" y="35812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286000" y="35812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286000" y="21337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4572000" y="373392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4876920" y="3733920"/>
            <a:ext cx="0" cy="1447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4876920" y="518148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80880" y="457200"/>
            <a:ext cx="81536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895480" y="457200"/>
            <a:ext cx="29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pplication  Programming  Interfac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685800"/>
            <a:ext cx="212760" cy="304920"/>
          </a:xfrm>
          <a:prstGeom prst="upDownArrow">
            <a:avLst>
              <a:gd name="adj1" fmla="val 50000"/>
              <a:gd name="adj2" fmla="val 285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3657600" y="685800"/>
            <a:ext cx="212760" cy="304920"/>
          </a:xfrm>
          <a:prstGeom prst="upDownArrow">
            <a:avLst>
              <a:gd name="adj1" fmla="val 50000"/>
              <a:gd name="adj2" fmla="val 285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6629400" y="685800"/>
            <a:ext cx="212760" cy="304920"/>
          </a:xfrm>
          <a:prstGeom prst="upDownArrow">
            <a:avLst>
              <a:gd name="adj1" fmla="val 50000"/>
              <a:gd name="adj2" fmla="val 285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2590920" y="2895480"/>
            <a:ext cx="1904760" cy="380880"/>
            <a:chOff x="2590920" y="2895480"/>
            <a:chExt cx="1904760" cy="380880"/>
          </a:xfrm>
        </p:grpSpPr>
        <p:sp>
          <p:nvSpPr>
            <p:cNvPr id="449" name=""/>
            <p:cNvSpPr/>
            <p:nvPr/>
          </p:nvSpPr>
          <p:spPr>
            <a:xfrm>
              <a:off x="2666880" y="297180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gent Authenticat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590920" y="289548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1" name=""/>
          <p:cNvSpPr/>
          <p:nvPr/>
        </p:nvSpPr>
        <p:spPr>
          <a:xfrm>
            <a:off x="4952880" y="1828800"/>
            <a:ext cx="327672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438280" y="1828800"/>
            <a:ext cx="221004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04920" y="1828800"/>
            <a:ext cx="182880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1905120"/>
            <a:ext cx="2057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SM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57200" y="190512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715000" y="1905120"/>
            <a:ext cx="175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09480" y="297180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457200" y="28954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5257800" y="28954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enticat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5105520" y="28954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629400" y="3048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858000" y="25146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6858000" y="25146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858000" y="3505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7467480" y="2286000"/>
            <a:ext cx="838080" cy="457200"/>
            <a:chOff x="7467480" y="2286000"/>
            <a:chExt cx="838080" cy="457200"/>
          </a:xfrm>
        </p:grpSpPr>
        <p:sp>
          <p:nvSpPr>
            <p:cNvPr id="466" name=""/>
            <p:cNvSpPr/>
            <p:nvPr/>
          </p:nvSpPr>
          <p:spPr>
            <a:xfrm>
              <a:off x="7467480" y="22860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467480" y="22860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8" name=""/>
          <p:cNvSpPr/>
          <p:nvPr/>
        </p:nvSpPr>
        <p:spPr>
          <a:xfrm>
            <a:off x="7467480" y="3276720"/>
            <a:ext cx="838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467480" y="3276720"/>
            <a:ext cx="60984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696080" y="28195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696080" y="2971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696080" y="31240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3" name=""/>
          <p:cNvGrpSpPr/>
          <p:nvPr/>
        </p:nvGrpSpPr>
        <p:grpSpPr>
          <a:xfrm>
            <a:off x="2590920" y="4495680"/>
            <a:ext cx="1904760" cy="380880"/>
            <a:chOff x="2590920" y="4495680"/>
            <a:chExt cx="1904760" cy="380880"/>
          </a:xfrm>
        </p:grpSpPr>
        <p:sp>
          <p:nvSpPr>
            <p:cNvPr id="474" name=""/>
            <p:cNvSpPr/>
            <p:nvPr/>
          </p:nvSpPr>
          <p:spPr>
            <a:xfrm>
              <a:off x="2666880" y="457200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gent Authoriz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590920" y="449568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6" name=""/>
          <p:cNvSpPr/>
          <p:nvPr/>
        </p:nvSpPr>
        <p:spPr>
          <a:xfrm>
            <a:off x="457200" y="44956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5257800" y="44956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orized 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5105520" y="44956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6629400" y="4648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6858000" y="41148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6858000" y="4114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6858000" y="51055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7467480" y="3886200"/>
            <a:ext cx="838080" cy="457200"/>
            <a:chOff x="7467480" y="3886200"/>
            <a:chExt cx="838080" cy="457200"/>
          </a:xfrm>
        </p:grpSpPr>
        <p:sp>
          <p:nvSpPr>
            <p:cNvPr id="484" name=""/>
            <p:cNvSpPr/>
            <p:nvPr/>
          </p:nvSpPr>
          <p:spPr>
            <a:xfrm>
              <a:off x="7467480" y="38862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467480" y="38862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6" name=""/>
          <p:cNvSpPr/>
          <p:nvPr/>
        </p:nvSpPr>
        <p:spPr>
          <a:xfrm>
            <a:off x="7467480" y="4876920"/>
            <a:ext cx="838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7467480" y="4876920"/>
            <a:ext cx="60984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696080" y="44197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76960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7696080" y="4724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609480" y="44956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enticat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981080" y="30481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981080" y="46483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4495680" y="30481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495680" y="46483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5T22:17:07Z</dcterms:created>
  <dc:creator>Yu-Cheng Chou</dc:creator>
  <dc:description/>
  <dc:language>en-US</dc:language>
  <cp:lastModifiedBy>ycchou</cp:lastModifiedBy>
  <dcterms:modified xsi:type="dcterms:W3CDTF">2007-03-27T19:05:06Z</dcterms:modified>
  <cp:revision>62</cp:revision>
  <dc:subject/>
  <dc:title>Slide 1</dc:title>
</cp:coreProperties>
</file>