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61AD-7829-4DA3-BA60-93BB9AF44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7E50-87D5-4A0B-8F29-216A55E9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C9BE-0419-4693-A7B2-6FFD7AA40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0029-C8AB-43DC-BB66-EC21E9B67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B67D-D0E3-4BF9-AF26-1859BE75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3805-2986-40D4-B121-7444EC81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C60E-A620-467D-A3E7-551FF3F4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1566-E14C-43B1-B3F3-301BB441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25D9-0453-4C96-9BA2-FF5A4007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216F-3B2F-4069-B545-A6679085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F78A-D747-4A32-9D62-B9AEA497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A6E5-E043-424A-88B7-AF9A49EC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612B-EB66-4902-8492-632A68D4F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609480"/>
            <a:ext cx="18288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6668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8195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5812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809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57200"/>
            <a:ext cx="4038480" cy="601992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6019920"/>
              <a:gd name="textAreaBottom" fmla="*/ 5823000 h 6019920"/>
            </a:gdLst>
            <a:ahLst/>
            <a:rect l="textAreaLeft" t="textAreaTop" r="textAreaRight" b="textAreaBottom"/>
            <a:pathLst>
              <a:path w="21600" h="32197">
                <a:moveTo>
                  <a:pt x="3600" y="0"/>
                </a:moveTo>
                <a:arcTo wR="3600" hR="3600" stAng="16200000" swAng="-5400000"/>
                <a:lnTo>
                  <a:pt x="0" y="28597"/>
                </a:lnTo>
                <a:arcTo wR="3600" hR="3600" stAng="10800000" swAng="-5400000"/>
                <a:lnTo>
                  <a:pt x="18000" y="32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9144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990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4479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523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981080"/>
            <a:ext cx="838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057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0481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3048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2767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276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914400"/>
            <a:ext cx="3049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609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828800"/>
            <a:ext cx="30492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5812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8862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581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3886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769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1055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51055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410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5715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5410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715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160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5146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590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91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"/>
          <p:cNvSpPr/>
          <p:nvPr/>
        </p:nvSpPr>
        <p:spPr>
          <a:xfrm>
            <a:off x="4648320" y="2666880"/>
            <a:ext cx="129528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533520"/>
            <a:ext cx="2057400" cy="21333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360"/>
              <a:gd name="textAreaBottom" fmla="*/ 2032920 h 2133360"/>
            </a:gdLst>
            <a:ahLst/>
            <a:rect l="textAreaLeft" t="textAreaTop" r="textAreaRight" b="textAreaBottom"/>
            <a:pathLst>
              <a:path w="21600" h="22397">
                <a:moveTo>
                  <a:pt x="3600" y="0"/>
                </a:moveTo>
                <a:arcTo wR="3600" hR="3600" stAng="16200000" swAng="-5400000"/>
                <a:lnTo>
                  <a:pt x="0" y="18797"/>
                </a:lnTo>
                <a:arcTo wR="3600" hR="3600" stAng="10800000" swAng="-5400000"/>
                <a:lnTo>
                  <a:pt x="18000" y="2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91440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10666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1066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1295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182880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1828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28600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2286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352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429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46483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800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4648320"/>
            <a:ext cx="761760" cy="53316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8769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41911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41911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7339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37339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943600" y="243792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715000" y="29718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743200" y="2895480"/>
            <a:ext cx="1905120" cy="380880"/>
            <a:chOff x="2743200" y="2895480"/>
            <a:chExt cx="1905120" cy="380880"/>
          </a:xfrm>
        </p:grpSpPr>
        <p:sp>
          <p:nvSpPr>
            <p:cNvPr id="497" name=""/>
            <p:cNvSpPr/>
            <p:nvPr/>
          </p:nvSpPr>
          <p:spPr>
            <a:xfrm>
              <a:off x="2819520" y="29718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dvertis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28954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105520" y="1828800"/>
            <a:ext cx="32763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90920" y="1828800"/>
            <a:ext cx="22096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19051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816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1028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102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102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620120" y="2286000"/>
            <a:ext cx="838080" cy="457200"/>
            <a:chOff x="7620120" y="2286000"/>
            <a:chExt cx="838080" cy="457200"/>
          </a:xfrm>
        </p:grpSpPr>
        <p:sp>
          <p:nvSpPr>
            <p:cNvPr id="512" name=""/>
            <p:cNvSpPr/>
            <p:nvPr/>
          </p:nvSpPr>
          <p:spPr>
            <a:xfrm>
              <a:off x="762012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20120" y="3276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32767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84872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4872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84872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743200" y="4495680"/>
            <a:ext cx="1905120" cy="380880"/>
            <a:chOff x="2743200" y="4495680"/>
            <a:chExt cx="1905120" cy="380880"/>
          </a:xfrm>
        </p:grpSpPr>
        <p:sp>
          <p:nvSpPr>
            <p:cNvPr id="520" name=""/>
            <p:cNvSpPr/>
            <p:nvPr/>
          </p:nvSpPr>
          <p:spPr>
            <a:xfrm>
              <a:off x="2819520" y="45720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Search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3200" y="44956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609480" y="28954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816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1028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102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10280" y="5105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7620120" y="3886200"/>
            <a:ext cx="838080" cy="457200"/>
            <a:chOff x="7620120" y="3886200"/>
            <a:chExt cx="838080" cy="457200"/>
          </a:xfrm>
        </p:grpSpPr>
        <p:sp>
          <p:nvSpPr>
            <p:cNvPr id="530" name=""/>
            <p:cNvSpPr/>
            <p:nvPr/>
          </p:nvSpPr>
          <p:spPr>
            <a:xfrm>
              <a:off x="762012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012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7620120" y="48769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20120" y="48769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4872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84872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84872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28954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44956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44956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4648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3200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3200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3828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362320" y="194328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362320" y="3429000"/>
            <a:ext cx="1714320" cy="1143000"/>
          </a:xfrm>
          <a:prstGeom prst="can">
            <a:avLst>
              <a:gd name="adj" fmla="val 500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3429000"/>
            <a:ext cx="171432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11480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.ch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1320" y="1828800"/>
            <a:ext cx="175248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91320" y="1828800"/>
            <a:ext cx="175248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43200" y="35053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Function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362320" y="1447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809880"/>
            <a:ext cx="1028880" cy="571680"/>
          </a:xfrm>
          <a:prstGeom prst="leftRightArrow">
            <a:avLst>
              <a:gd name="adj1" fmla="val 50000"/>
              <a:gd name="adj2" fmla="val 35828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24784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47840" y="274320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4784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0" y="4648320"/>
            <a:ext cx="1905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Mobile-C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3276720"/>
            <a:ext cx="2362320" cy="16761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43600" y="3809880"/>
            <a:ext cx="144792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3600" y="2590920"/>
            <a:ext cx="144792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048120" y="201924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15000" y="1828800"/>
            <a:ext cx="182880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15000" y="1828800"/>
            <a:ext cx="182880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48120" y="1523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867280" y="3809880"/>
            <a:ext cx="152424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867280" y="2590920"/>
            <a:ext cx="152424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28195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2819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4267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Cloud"/>
          <p:cNvSpPr/>
          <p:nvPr/>
        </p:nvSpPr>
        <p:spPr>
          <a:xfrm>
            <a:off x="4038480" y="2895480"/>
            <a:ext cx="1295640" cy="457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295280" cy="12178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 rot="5400000">
            <a:off x="4190760" y="2286000"/>
            <a:ext cx="990360" cy="228600"/>
          </a:xfrm>
          <a:prstGeom prst="leftRightArrow">
            <a:avLst>
              <a:gd name="adj1" fmla="val 50000"/>
              <a:gd name="adj2" fmla="val 8624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81080" y="4038480"/>
            <a:ext cx="1752840" cy="25909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25">
                <a:moveTo>
                  <a:pt x="3600" y="0"/>
                </a:moveTo>
                <a:arcTo wR="3600" hR="3600" stAng="16200000" swAng="-5400000"/>
                <a:lnTo>
                  <a:pt x="0" y="28325"/>
                </a:lnTo>
                <a:arcTo wR="3600" hR="3600" stAng="10800000" swAng="-5400000"/>
                <a:lnTo>
                  <a:pt x="18000" y="31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57400" y="4114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 Robot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4419720"/>
            <a:ext cx="1295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3623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4800600"/>
            <a:ext cx="12956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62485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62320" y="4952880"/>
            <a:ext cx="9903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14600" y="59436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43200" y="46483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510552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98760" y="510552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17920" y="536256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617920" y="562140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57440" y="536256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57440" y="562140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95680" y="4800600"/>
            <a:ext cx="7488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6483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006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1143000" cy="838080"/>
          </a:xfrm>
          <a:prstGeom prst="rect">
            <a:avLst/>
          </a:prstGeom>
          <a:ln w="0">
            <a:noFill/>
          </a:ln>
        </p:spPr>
      </p:pic>
      <p:grpSp>
        <p:nvGrpSpPr>
          <p:cNvPr id="612" name=""/>
          <p:cNvGrpSpPr/>
          <p:nvPr/>
        </p:nvGrpSpPr>
        <p:grpSpPr>
          <a:xfrm>
            <a:off x="5791320" y="4038480"/>
            <a:ext cx="1752480" cy="2590920"/>
            <a:chOff x="5791320" y="4038480"/>
            <a:chExt cx="1752480" cy="2590920"/>
          </a:xfrm>
        </p:grpSpPr>
        <p:sp>
          <p:nvSpPr>
            <p:cNvPr id="613" name=""/>
            <p:cNvSpPr/>
            <p:nvPr/>
          </p:nvSpPr>
          <p:spPr>
            <a:xfrm>
              <a:off x="5791320" y="4038480"/>
              <a:ext cx="1752480" cy="2590920"/>
            </a:xfrm>
            <a:custGeom>
              <a:avLst/>
              <a:gdLst>
                <a:gd name="textAreaLeft" fmla="*/ 85320 w 1752480"/>
                <a:gd name="textAreaRight" fmla="*/ 1667160 w 1752480"/>
                <a:gd name="textAreaTop" fmla="*/ 85320 h 2590920"/>
                <a:gd name="textAreaBottom" fmla="*/ 2505600 h 2590920"/>
              </a:gdLst>
              <a:ahLst/>
              <a:rect l="textAreaLeft" t="textAreaTop" r="textAreaRight" b="textAreaBottom"/>
              <a:pathLst>
                <a:path w="21600" h="31932">
                  <a:moveTo>
                    <a:pt x="3600" y="0"/>
                  </a:moveTo>
                  <a:arcTo wR="3600" hR="3600" stAng="16200000" swAng="-5400000"/>
                  <a:lnTo>
                    <a:pt x="0" y="28332"/>
                  </a:lnTo>
                  <a:arcTo wR="3600" hR="3600" stAng="10800000" swAng="-5400000"/>
                  <a:lnTo>
                    <a:pt x="18000" y="3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7640" y="411480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bile Robot Pro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19920" y="4419720"/>
              <a:ext cx="1295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72200" y="44197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 AP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19920" y="4800600"/>
              <a:ext cx="129528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19920" y="62485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Agen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72200" y="4952880"/>
              <a:ext cx="99072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24840" y="5943600"/>
              <a:ext cx="69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3440" y="464832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6248520" y="5105520"/>
              <a:ext cx="838080" cy="838080"/>
              <a:chOff x="6248520" y="5105520"/>
              <a:chExt cx="838080" cy="838080"/>
            </a:xfrm>
          </p:grpSpPr>
          <p:sp>
            <p:nvSpPr>
              <p:cNvPr id="623" name=""/>
              <p:cNvSpPr/>
              <p:nvPr/>
            </p:nvSpPr>
            <p:spPr>
              <a:xfrm>
                <a:off x="6248520" y="5105520"/>
                <a:ext cx="838080" cy="838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308280" y="510552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27800" y="536292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27800" y="562104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366960" y="53618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366960" y="56210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143000" cy="8319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886200" y="533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H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8430800">
            <a:off x="3565080" y="370188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3640400">
            <a:off x="4847760" y="369072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152280"/>
            <a:ext cx="1752480" cy="25909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32">
                <a:moveTo>
                  <a:pt x="3600" y="0"/>
                </a:moveTo>
                <a:arcTo wR="3600" hR="3600" stAng="16200000" swAng="-5400000"/>
                <a:lnTo>
                  <a:pt x="0" y="28332"/>
                </a:lnTo>
                <a:arcTo wR="3600" hR="3600" stAng="10800000" swAng="-5400000"/>
                <a:lnTo>
                  <a:pt x="18000" y="319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10080" y="2286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533520"/>
            <a:ext cx="1295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386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6400" y="914400"/>
            <a:ext cx="12952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4864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38680" y="1066680"/>
            <a:ext cx="9907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791320" y="20574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7621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715000" y="1219320"/>
            <a:ext cx="838080" cy="838080"/>
            <a:chOff x="5715000" y="1219320"/>
            <a:chExt cx="838080" cy="838080"/>
          </a:xfrm>
        </p:grpSpPr>
        <p:sp>
          <p:nvSpPr>
            <p:cNvPr id="643" name=""/>
            <p:cNvSpPr/>
            <p:nvPr/>
          </p:nvSpPr>
          <p:spPr>
            <a:xfrm>
              <a:off x="5715000" y="1219320"/>
              <a:ext cx="838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74760" y="121932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94280" y="147672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94280" y="173484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33440" y="14756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3440" y="17348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952880" y="4800600"/>
            <a:ext cx="76320" cy="763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1055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434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946680" y="2286000"/>
            <a:ext cx="658800" cy="246240"/>
            <a:chOff x="3946680" y="2286000"/>
            <a:chExt cx="658800" cy="246240"/>
          </a:xfrm>
        </p:grpSpPr>
        <p:sp>
          <p:nvSpPr>
            <p:cNvPr id="653" name=""/>
            <p:cNvSpPr/>
            <p:nvPr/>
          </p:nvSpPr>
          <p:spPr>
            <a:xfrm>
              <a:off x="4114800" y="228600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46680" y="228600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4114800" y="228600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413160" y="3505320"/>
            <a:ext cx="658800" cy="246240"/>
            <a:chOff x="3413160" y="3505320"/>
            <a:chExt cx="658800" cy="246240"/>
          </a:xfrm>
        </p:grpSpPr>
        <p:sp>
          <p:nvSpPr>
            <p:cNvPr id="657" name=""/>
            <p:cNvSpPr/>
            <p:nvPr/>
          </p:nvSpPr>
          <p:spPr>
            <a:xfrm>
              <a:off x="358128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1316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581280" y="3505320"/>
            <a:ext cx="3812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318280" y="3505320"/>
            <a:ext cx="658800" cy="246240"/>
            <a:chOff x="5318280" y="3505320"/>
            <a:chExt cx="658800" cy="246240"/>
          </a:xfrm>
        </p:grpSpPr>
        <p:sp>
          <p:nvSpPr>
            <p:cNvPr id="661" name=""/>
            <p:cNvSpPr/>
            <p:nvPr/>
          </p:nvSpPr>
          <p:spPr>
            <a:xfrm>
              <a:off x="548640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1828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4864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0880"/>
            <a:ext cx="75438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295280"/>
            <a:ext cx="6782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129528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plication Programming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676520"/>
            <a:ext cx="70866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7432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19810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19051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2514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1905120"/>
            <a:ext cx="1752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514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533520"/>
            <a:ext cx="7621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609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609480"/>
            <a:ext cx="761760" cy="45720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762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1066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1143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14479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16002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160020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1828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23623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23623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28195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28195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7339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 rot="936600">
            <a:off x="3048120" y="3733560"/>
            <a:ext cx="36972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511960" y="36590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 rot="20093400">
            <a:off x="5334120" y="3657240"/>
            <a:ext cx="3124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09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124080" y="35812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496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2362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loud"/>
          <p:cNvSpPr/>
          <p:nvPr/>
        </p:nvSpPr>
        <p:spPr>
          <a:xfrm>
            <a:off x="3657600" y="3200400"/>
            <a:ext cx="137160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1523880"/>
            <a:ext cx="167616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002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981080"/>
            <a:ext cx="12189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20574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36576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3581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 rot="20328600">
            <a:off x="5091120" y="359424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662360" y="2654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 rot="20328600">
            <a:off x="4495680" y="2666520"/>
            <a:ext cx="257400" cy="381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 rot="947400">
            <a:off x="3428640" y="365760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191120"/>
            <a:ext cx="167616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42670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4648320"/>
            <a:ext cx="1218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47242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4191120"/>
            <a:ext cx="167652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91320" y="4267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4648320"/>
            <a:ext cx="1219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4724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66680" y="3124080"/>
            <a:ext cx="5410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3429000"/>
            <a:ext cx="838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35053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3429000"/>
            <a:ext cx="838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4114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373392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3809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14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2438280"/>
            <a:ext cx="5410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25146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8195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257800" y="1828800"/>
            <a:ext cx="2666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8288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1828800"/>
            <a:ext cx="20574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19810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981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9810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990720"/>
            <a:ext cx="7238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10666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228600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666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30481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2819520" y="2666880"/>
            <a:ext cx="1904760" cy="380880"/>
            <a:chOff x="2819520" y="2666880"/>
            <a:chExt cx="1904760" cy="380880"/>
          </a:xfrm>
        </p:grpSpPr>
        <p:sp>
          <p:nvSpPr>
            <p:cNvPr id="323" name=""/>
            <p:cNvSpPr/>
            <p:nvPr/>
          </p:nvSpPr>
          <p:spPr>
            <a:xfrm>
              <a:off x="2895480" y="27432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nection Listen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9520" y="26668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819520" y="4191120"/>
            <a:ext cx="1904760" cy="380880"/>
            <a:chOff x="2819520" y="4191120"/>
            <a:chExt cx="1904760" cy="380880"/>
          </a:xfrm>
        </p:grpSpPr>
        <p:sp>
          <p:nvSpPr>
            <p:cNvPr id="326" name=""/>
            <p:cNvSpPr/>
            <p:nvPr/>
          </p:nvSpPr>
          <p:spPr>
            <a:xfrm>
              <a:off x="2895480" y="426744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Receiv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19520" y="419112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819520" y="5257800"/>
            <a:ext cx="1904760" cy="380880"/>
            <a:chOff x="2819520" y="5257800"/>
            <a:chExt cx="1904760" cy="380880"/>
          </a:xfrm>
        </p:grpSpPr>
        <p:sp>
          <p:nvSpPr>
            <p:cNvPr id="329" name=""/>
            <p:cNvSpPr/>
            <p:nvPr/>
          </p:nvSpPr>
          <p:spPr>
            <a:xfrm>
              <a:off x="2895480" y="533412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Send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9520" y="525780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410080" y="27432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4120" y="26668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1520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0120" y="22096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72400" y="22096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153280" y="26668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1532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532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3124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72400" y="31240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86400" y="42670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15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37339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72400" y="37339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153280" y="4191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153280" y="4343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53280" y="4495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0120" y="4648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72400" y="46483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42670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53341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525780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1828800"/>
            <a:ext cx="37339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1828800"/>
            <a:ext cx="22100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828800"/>
            <a:ext cx="20574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19051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24280" y="4343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5410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1295280"/>
            <a:ext cx="8763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2952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971800" y="20574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Initializ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198108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20574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19810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3432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81480" y="35053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81480" y="342900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934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29718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1520" y="29718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72400" y="3429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3581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37339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3886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91520" y="38862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35268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3276720"/>
            <a:ext cx="1752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2057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19810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990720"/>
            <a:ext cx="350532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990720"/>
            <a:ext cx="19810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990720"/>
            <a:ext cx="20574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0666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10666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10666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71800" y="35053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Manag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342900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502920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Execution Engin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ead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81480" y="4952880"/>
            <a:ext cx="15242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6095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543800" y="1371600"/>
            <a:ext cx="838080" cy="457200"/>
            <a:chOff x="7543800" y="1371600"/>
            <a:chExt cx="838080" cy="457200"/>
          </a:xfrm>
        </p:grpSpPr>
        <p:sp>
          <p:nvSpPr>
            <p:cNvPr id="416" name=""/>
            <p:cNvSpPr/>
            <p:nvPr/>
          </p:nvSpPr>
          <p:spPr>
            <a:xfrm>
              <a:off x="7543800" y="1371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43800" y="1371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7543800" y="23623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43800" y="23623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72400" y="1905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2057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72400" y="2209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4419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4419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543800" y="4648320"/>
            <a:ext cx="838080" cy="457200"/>
            <a:chOff x="7543800" y="4648320"/>
            <a:chExt cx="838080" cy="457200"/>
          </a:xfrm>
        </p:grpSpPr>
        <p:sp>
          <p:nvSpPr>
            <p:cNvPr id="426" name=""/>
            <p:cNvSpPr/>
            <p:nvPr/>
          </p:nvSpPr>
          <p:spPr>
            <a:xfrm>
              <a:off x="7543800" y="46483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43800" y="464832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7238880" y="5715000"/>
            <a:ext cx="1143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43800" y="5943600"/>
            <a:ext cx="838080" cy="457200"/>
            <a:chOff x="7543800" y="5943600"/>
            <a:chExt cx="838080" cy="457200"/>
          </a:xfrm>
        </p:grpSpPr>
        <p:sp>
          <p:nvSpPr>
            <p:cNvPr id="430" name=""/>
            <p:cNvSpPr/>
            <p:nvPr/>
          </p:nvSpPr>
          <p:spPr>
            <a:xfrm>
              <a:off x="7543800" y="5943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43800" y="5943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772400" y="5257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72400" y="5410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72400" y="5562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5715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3733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76920" y="37339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814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457200"/>
            <a:ext cx="8153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4572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576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2590920" y="2895480"/>
            <a:ext cx="1904760" cy="380880"/>
            <a:chOff x="2590920" y="2895480"/>
            <a:chExt cx="1904760" cy="380880"/>
          </a:xfrm>
        </p:grpSpPr>
        <p:sp>
          <p:nvSpPr>
            <p:cNvPr id="449" name=""/>
            <p:cNvSpPr/>
            <p:nvPr/>
          </p:nvSpPr>
          <p:spPr>
            <a:xfrm>
              <a:off x="2666880" y="29718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enticat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90920" y="28954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952880" y="1828800"/>
            <a:ext cx="32767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1828800"/>
            <a:ext cx="221004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19051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29718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467480" y="2286000"/>
            <a:ext cx="838080" cy="457200"/>
            <a:chOff x="7467480" y="2286000"/>
            <a:chExt cx="838080" cy="457200"/>
          </a:xfrm>
        </p:grpSpPr>
        <p:sp>
          <p:nvSpPr>
            <p:cNvPr id="466" name=""/>
            <p:cNvSpPr/>
            <p:nvPr/>
          </p:nvSpPr>
          <p:spPr>
            <a:xfrm>
              <a:off x="746748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6748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467480" y="32767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32767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960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6960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9608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590920" y="4495680"/>
            <a:ext cx="1904760" cy="380880"/>
            <a:chOff x="2590920" y="4495680"/>
            <a:chExt cx="1904760" cy="380880"/>
          </a:xfrm>
        </p:grpSpPr>
        <p:sp>
          <p:nvSpPr>
            <p:cNvPr id="474" name=""/>
            <p:cNvSpPr/>
            <p:nvPr/>
          </p:nvSpPr>
          <p:spPr>
            <a:xfrm>
              <a:off x="2666880" y="45720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oriz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90920" y="44956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572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780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294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7467480" y="3886200"/>
            <a:ext cx="838080" cy="457200"/>
            <a:chOff x="7467480" y="3886200"/>
            <a:chExt cx="838080" cy="457200"/>
          </a:xfrm>
        </p:grpSpPr>
        <p:sp>
          <p:nvSpPr>
            <p:cNvPr id="484" name=""/>
            <p:cNvSpPr/>
            <p:nvPr/>
          </p:nvSpPr>
          <p:spPr>
            <a:xfrm>
              <a:off x="746748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6748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467480" y="48769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7480" y="48769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696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6960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810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810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2:17:07Z</dcterms:created>
  <dc:creator>Yu-Cheng Chou</dc:creator>
  <dc:description/>
  <dc:language>en-US</dc:language>
  <cp:lastModifiedBy>ycchou</cp:lastModifiedBy>
  <dcterms:modified xsi:type="dcterms:W3CDTF">2007-03-27T19:05:06Z</dcterms:modified>
  <cp:revision>62</cp:revision>
  <dc:subject/>
  <dc:title>Slide 1</dc:title>
</cp:coreProperties>
</file>